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2C9-E963-4187-8B94-8CC06A98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782-3994-40B6-A391-0831E456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79A-59CC-4F35-89C6-0864BC97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B7C-3BAC-40F0-AC5D-66BB676D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967B-84CC-436C-9820-B78DACA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7BE-2D29-45EB-9982-1DC6A42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B97-F372-48C4-9CFF-A3BA36B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184-EDC4-4537-981E-D6254DD2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009-6832-47F8-853E-6588296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C6D-5BCA-4670-B63F-1C5492A5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BB9-8781-475D-8133-6E93A4F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C58-423A-437D-95FE-4B779B7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FBA-5606-41DD-AD64-745F24C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EC8-B457-4BAC-8F70-DC354D1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360-08AE-44FB-B7CA-ED6A398B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366-30BE-4496-BAD4-4E8E43E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CC4-F520-4FCC-AEB3-101B97D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2FF1-9DB7-42CD-B0AA-A54F43ED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F5043-4948-4619-8831-C152D247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7A42-48C1-4BFA-AD79-BE9EA9F7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33DD-7AEF-4270-BEB4-A97E9A1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B391-CB40-40F7-B1DD-49E39B7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C2C-3198-4E3A-9649-EF53D9D2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E75C-19BE-421E-9F14-FA6EC9F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E76F-A98A-4581-925B-375FB00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555A-82BD-4856-8AC3-97BBE5E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EC9E-851A-47B9-8B59-2003822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14FE-4981-4D28-84FA-7FDFFB0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031C-87EC-4F1F-9698-C9760EA0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FFC7-4E40-485A-B684-BDFA5C39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4730-92A7-4AB4-9472-BD351E17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B3BF-F94D-4101-B4F6-61EFA87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5506-E92B-46E5-A863-763B81C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2F4-533A-4243-95E7-F428369F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D6C1-9E16-45A3-8348-64FE961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77A3-2BD2-4200-8604-B760137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B81C-ABCE-4D9C-A289-1ED604A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DD6F-7C85-48B4-95B6-15DF4E1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57F8-F41E-4A59-9BA3-26B85D4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4891-9EBB-4604-A877-5B2333A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A252-ACEC-487A-B830-E57D357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8A2C-9F51-4FAF-B230-D64BDB9B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58F8-F3EA-43DF-A31A-B9E903EC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F3E1-CDB4-4C3D-8C86-858727BD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D21-D0DF-422C-ACC3-15014D6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D630-96AA-4DA7-9AD9-5B62FCB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4F6F-686B-4346-91B1-6CB2B34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4597-B459-4C90-9497-A431C61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5814-9C45-4D44-AFCD-B4B8CB69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80A68-DD9B-43B5-B572-2DB06CF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5142-C1F1-45F3-8F78-82E583D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4A7B-7313-4FA1-8A86-AE86433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A562-0247-4C48-8B7A-87E7E94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88F3-9ED0-4996-9C1E-8B91CEA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7C60-618F-4A03-95BA-5D175686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8B1-3068-4987-8CFB-6F63F95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B97B-5E36-4E62-9EB6-570555E5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EEBF-C0C5-4675-991E-14381E4A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64B8-827F-4274-A316-2251CF5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277A-778C-428F-B9F8-6B9ACA67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18093-6866-4711-B208-4BDC7E3B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1B76-4D58-4C76-9862-906AFED2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E251A-F508-47D1-8732-AB4310B6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B11E-79AC-4A13-A446-6775857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3C47-C825-4696-9355-73A15F0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CF23-8CAE-4309-9A42-E94C79F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728-0714-43CE-97BC-A5F2410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9C0A7-012A-4CA0-A0EE-8B2AEB8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BCD1-69B7-4589-8A20-72144EA8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6688-65F3-4B81-9198-9332F3E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7B0AF-4C75-4DC0-843A-4557EE4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8911-C393-4D75-B46E-93A3198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41A2-B69D-46B5-95AA-9C22C7E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CB9A-B953-4C3C-8F9F-DF7370E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40DD5-FF78-4D5E-8C0D-9F75DDE6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82D2-5D7B-4A79-9C7D-AC4B856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86BD-1125-44B4-BC66-E1A207D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9F0-7DB5-4CFA-90A4-72E3D20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8B678-2E02-4E4A-8636-ACE2BB0D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F1204-8A90-4CFA-9F38-D8C4607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BEFD-3E95-412F-A6F0-D4EEDEAC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0C7C-5FF8-42FE-BCCC-93099B06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9A6D-76D4-41FC-B895-E8556880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662-D6EE-4710-AD22-5DE710D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C2B5-0D7A-45D8-B440-583E2C54BF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4AF-6A59-4F7F-8446-2E6D708907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64B-7E52-4703-9988-E1B5828C87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672-A502-43AB-B6B3-4E23A94975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ABF-4C62-407C-AD1C-24D7358199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9733-89E3-4C4B-8EE5-D3DC1E7F79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2A11-2C73-4F01-A9CA-B54E1FFA06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58400" cy="718488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5"/>
          <p:cNvSpPr/>
          <p:nvPr/>
        </p:nvSpPr>
        <p:spPr>
          <a:xfrm>
            <a:off x="4932360" y="2852640"/>
            <a:ext cx="2664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: Богатырева Дина Михайловна студентка  2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ь «Психология образования и социальной сфе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ультета психолого-педагогического и специального образования С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№ </a:t>
            </a: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42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 С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1332000" y="3244680"/>
            <a:ext cx="28796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раст стропт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зис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симптомы кризиса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47280" y="1447560"/>
            <a:ext cx="720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еволие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Малыш хочет делать что-либо самостоятельно, игнорируя подсказки или слова родителе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тест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Особенности этой характеристики – буря эмоций в отношении указок родителей, что он должен делать. Если что-либо за него выбрали или решили родители, ребенок отказывается от этих вещей или действ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есценивание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Малыш перестает ценить те вещи или действия, которые ранее были для него важными, любимыми или дорогими. Он может кидать и ломать любимые игрушки, обзывать родителей, драться с братьями-сестрами, отказываться от любимых лакомст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спотизм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Ребенок пытается командовать членами семьи, требует подчинения и беспрекословного послушания. Если его прихоти не выполняются, следует истерика и крики, топанье ногами и повышение голоса. </a:t>
            </a:r>
            <a:r>
              <a:rPr b="0" lang="ru-RU" sz="1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C:\Users\Дина\Desktop\Resize_of_img184.jpg"/>
          <p:cNvPicPr/>
          <p:nvPr/>
        </p:nvPicPr>
        <p:blipFill>
          <a:blip r:embed="rId1"/>
          <a:stretch/>
        </p:blipFill>
        <p:spPr>
          <a:xfrm>
            <a:off x="3851280" y="4724280"/>
            <a:ext cx="19051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45" name="Picture 3" descr="C:\Users\Дина\Desktop\krizis-3-let-y-detei.png"/>
          <p:cNvPicPr/>
          <p:nvPr/>
        </p:nvPicPr>
        <p:blipFill>
          <a:blip r:embed="rId1"/>
          <a:stretch/>
        </p:blipFill>
        <p:spPr>
          <a:xfrm>
            <a:off x="539640" y="115920"/>
            <a:ext cx="860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97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 сам!  Трудный возраст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16000" y="980640"/>
            <a:ext cx="781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 протекает как кризис социальных отношений и связан со становлением самосознания ребенка. Появляется позиция 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"Я сам"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Ребенок познает различие между "должен" и "хочу"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кризис протекает вяло, это говорит о задержке в развитии аффективной и волевой сторон личности. У детей начинает формироваться воля, которую Э.Эриксон назвал автономией (независимостью, самостоятельностью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ти перестают нуждаться в опеке со стороны взрослых и стремятся сами делать выбор. Чувство стыда и неуверенности вместо автономии возникают тогда, когда родители ограничивают проявления независимости ребенка, наказывают или высмеивают всякие попытки самостоятельност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она ближайшего развития ребенка состоит в обретении "могу": он должен научиться соотносить свое "хочу" с "должен" и "нельзя" и на этой основе определить свое "могу". Кризис затягивается, если взрослый стоит на позиции "хочу" (вседозволенность) или "нельзя" (запреты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едует предоставить ребенку сферу деятельности, где бы он мог проявлять самостоятельность. Эта сфера деятельности – в игре. Игра с ее особыми правилами и нормами, которые отражают социальные связи, служит для ребенка тем "безопасным островом, где он может развивать и апробировать свою независимость, самостоятельность" (Э.Эриксон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а бояться не надо. Любой ребенок должен его пережить, т.к. происходит становление личности. Плохо, когда кризис "забивается" во внутрь ребенка, что может приводить к различным неврозам. Будьте терпеливы, авторитетны и ваш ребенок перерастет этот период быстр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97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 сам!  Трудный возраст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16000" y="980640"/>
            <a:ext cx="781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ешняя </a:t>
            </a: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скризисность</a:t>
            </a: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создающая иллюзию благополучия, может быть обманчивой, свидетельствовать о том, что в развитии ребёнка не произошло соответствующих возрастных измен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ким образом, не надо пугаться 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ных проявлений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опасны проблемы не понимания, возникающие в этот момент у родителей и педагог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жно ли, действуя грамотно, смягчить проявления 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а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мочь ребёнку выйти из него, не вынося в душе негативные качества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десь важны следующие знания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упрямство – это крайняя степень проявления воли, необходимого для ребёнка качества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капризность – демонстрация собственной значимости для других, ощущение своего </a:t>
            </a: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Я»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гоизм – в здоровом виде чувство самости, собственное достоинство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агрессивность – крайняя форма чувства самозащиты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замкнутость- неадекватная форма проявления здоровой осторожности, т. е. необходимых для выживания в обществе качест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97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 сам!  Трудный возраст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87280" y="1125000"/>
            <a:ext cx="7747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ёнок должен выйти из 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а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с набором положительных качеств, главная задача родителей и педагогов – не допустить закрепления их крайних проявл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еобходимо знать родителям о детском упрямстве и капризности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ериод упрямства и капризности начинается примерно с 18 месяцев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фаза эта заканчивается к 3,5-4 годам; случайные приступы упрямства в более старшем возрасте – тоже вещь вполне нормальна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ик упрямства приходится на 2,5-3 года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альчики упрямятся сильнее, чем девочк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евочки капризничают чаще, чем мальчик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 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ный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период приступы капризности и упрямства случаются по 5 раз в день, у некоторых – до 19 раз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если дети по достижении 4 лет всё ещё продолжают упрямиться и капризничать, то, вероятнее всего, речь идёт о </a:t>
            </a: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фиксированном»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упрямстве, истеричности, как удобных способах манипулирования ребёнком своими родител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аще всего это результат поддавшихся родителей нажиму со стороны ребёнка, нередко ради своего спокойств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53" name="Picture 2" descr="C:\Users\Дина\Desktop\8ddc27260db3b00f59d2db6de4fd910b87bd83ef.jpg"/>
          <p:cNvPicPr/>
          <p:nvPr/>
        </p:nvPicPr>
        <p:blipFill>
          <a:blip r:embed="rId1"/>
          <a:stretch/>
        </p:blipFill>
        <p:spPr>
          <a:xfrm>
            <a:off x="1332000" y="260280"/>
            <a:ext cx="770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55" name="Picture 2" descr="C:\Users\Дина\Desktop\1597093489151866702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сопровожде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ережить кризис 3 лет у ребенка?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веты психологов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Что же делать?» - именно таким вопросом часто задаются родители маленьких бунтарей. Всем озадаченным мамам и папам психологи рекомендуют придерживаться следующих правил: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рабатывайте правильную тактику своего поведения, станьте более гибкими, расширьте права и обязанности ребен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воляйте малышу быть самостоятельным. Не вмешивайтесь (по возможности) в дела ребенка, если он не проси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ните, что ребенок как бы испытывает Ваш характер, проверяя по несколько раз в день, действительно ли то, что было запрещено утром, запретят вечеро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являйте твердость. Устанавливайте четкие запреты (нельзя убегать на улице от мамы, трогать горячую плиту и т.д.). Запретов должно быть не больше 5. Этой линии поведения должны придерживаться все члены семьи без исключен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ните, что ребенок многие слова и поступки повторяет за Вами, поэтому следите за собой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сопровожде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 вспышках упрямства, гнева отвлекайте малыша на что-нибудь нейтральное (вспоминайте, какую собачку, кошечку или бабочку Вы видели на прогулке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гда ребенок злится или у него истерика, то бесполезно объяснять, что так делать нехорошо. Отложите это до тех пор, пока малыш не успокоится. Возьмите его за руку и уведите в спокойное безлюдное мест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уйте игру для сглаживания кризисных вспышек. Например, если ребенок отказывается есть, не настаивайте, посадите мишку за стол и пусть малыш его кормит, но вместе с тем, рассказываете, что мишка любит есть по очереди – ложка ему, ложка Маше. Обыграть можно многое: умывание, одевание, уборку игрушек..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 подчёркивайте, какой Ваш ребёнок уже большой, не «сюсюкайтесь» и не делайте все сделать за малыша. Разговаривайте с ним, как с равным человеком, мнение которого Вам интересн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ите ребенка и показывайте ему, что он дорог Вам, несмотря ни на чт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 того, как вы будете вести себя с ребенком во время этого кризиса, зависит, сохранит ли ваш малыш активность, упорство в достижении цели, будет ли продолжать стремиться к самостоятельности. Или он сломается и станет безропотно послушным, безвольным, зависимым человеком с заниженной самооценко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61" name="Picture 2" descr="C:\Users\Дина\Desktop\slide-6.jpg"/>
          <p:cNvPicPr/>
          <p:nvPr/>
        </p:nvPicPr>
        <p:blipFill>
          <a:blip r:embed="rId1"/>
          <a:stretch/>
        </p:blipFill>
        <p:spPr>
          <a:xfrm>
            <a:off x="1187280" y="189000"/>
            <a:ext cx="777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24" name="Picture 4" descr="C:\Users\Дина\Desktop\img0.jpg"/>
          <p:cNvPicPr/>
          <p:nvPr/>
        </p:nvPicPr>
        <p:blipFill>
          <a:blip r:embed="rId1"/>
          <a:stretch/>
        </p:blipFill>
        <p:spPr>
          <a:xfrm>
            <a:off x="1042920" y="189000"/>
            <a:ext cx="7921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116000" y="126828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ом прохождения кризиса 3 лет является появление новообразований, необходимых для дальнейшего правильного развития – самосознания, волевых качеств, самостоятельности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сутствие кризиса трех лет может быть сигналом задержки развития ребенка, поэтому встречайте этот возраст с радостью: малыш становится самостоятельным!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ак, рецепт от кризиса трех лет очень прост: терпение, понимание, творчество, игры и, конечно же, чувство юмор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5" descr="C:\Users\Дина\Desktop\солнышко.jpg"/>
          <p:cNvPicPr/>
          <p:nvPr/>
        </p:nvPicPr>
        <p:blipFill>
          <a:blip r:embed="rId1"/>
          <a:stretch/>
        </p:blipFill>
        <p:spPr>
          <a:xfrm>
            <a:off x="385128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 использованной литератур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.А. Тухужева, Д.С. Темирканова, Д.А. Гукова. Проблемы кризиса трех лет с точки зрения Л.С. Выготского // Вопросы науки и образования, 2018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.М. Шакирова, А.Ф. Гильманова. Возрастные кризисы у детей дошкольного и школьного возраста // Скиф. Вопросы студенческой науки, 2019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мирнова Е.О. Детская психология : учебник / Е.О. Смирнова. — М.: КНОРУС, 2016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.И. Лисиной Особенности воспитания младших дошкольников (совместно с Т. В. Гуськовой) // Дошкольное воспитание, 1983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5" descr="C:\Users\Дина\Desktop\солнышко.jpg"/>
          <p:cNvPicPr/>
          <p:nvPr/>
        </p:nvPicPr>
        <p:blipFill>
          <a:blip r:embed="rId1"/>
          <a:stretch/>
        </p:blipFill>
        <p:spPr>
          <a:xfrm>
            <a:off x="3780000" y="3716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План презент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Общая характеристика кризиса трех л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Симптомы кризиса трех л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Я сам! Трудный возрас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Советы родителям трехлетнего ребен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Выво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Список использованных источн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C:\Users\Дина\Desktop\солнышко.jpg"/>
          <p:cNvPicPr/>
          <p:nvPr/>
        </p:nvPicPr>
        <p:blipFill>
          <a:blip r:embed="rId1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29" name="Picture 3" descr="C:\Users\Дина\Desktop\unnamed.png"/>
          <p:cNvPicPr/>
          <p:nvPr/>
        </p:nvPicPr>
        <p:blipFill>
          <a:blip r:embed="rId1"/>
          <a:stretch/>
        </p:blipFill>
        <p:spPr>
          <a:xfrm>
            <a:off x="1042920" y="115920"/>
            <a:ext cx="79218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характеристика кризиса трех лет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76000" y="1197000"/>
            <a:ext cx="74581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зис трех лет - граница между ранним и дошкольным детством - один из наиболее трудных моментов в жизни ребенка. Это разрушение устоявшейся системы социальных отношений, кризис выделения своего «Я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татье «Проблема возраста» Выготский пишет, что чисто внешне кризисы характеризуются чертами, противоположными стабильным возрастам. В этих периодах на протяжении относительно короткого времени сосредоточены резкие, капитальные сдвиги и смещения, изменения и переломы в личности ребен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деляются три общих особенности такого период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Границы, определяющие начало и конец кризиса от смежных возрастов, в высшей степени неотчетливы - трудно определить момент его наступления и окончания. Но в середине периода обычно наступает резкое обострение - своеобразная кульминация кризиса и состояние наиболее яркого отличия от устойчивых периодов жизн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Значительная часть детей, переживающих критические периоды, обнаруживает трудновоспитуемость. Дети как бы выпадают из системы педагогического воздействия, которая еще совсем недавно обеспечивала нормальный ход их воспитания и обучения. В критические возрасты развитие ребенка часто сопровождается более или менее острыми конфликтами с окружающими и с болезненными внутренними конфликта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Развитие в эти периоды, в отличие от устойчивых возрастов, совершает скорее разрушительную, чем созидательную работу. Прогрессивное развитие личности как бы затухает, а на первый план выступают процессы отмирания и свертывания того, что образовалось на предшествующей ступени развит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ожидать начало кризиса трехлетки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197000"/>
            <a:ext cx="7499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матривая кризис трех лет, Выготский задается тремя вопросам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ового (какие новообразования переходного типа) возникает в указанное время и какова судьба новообразования, которое должно исчезнуть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ая смена центральных и побочных линий развития здесь происходи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Как оценить критический возраст с точки зрения зоны его ближайшего развития, т.е. отношения к следующему возрасту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зируя кризис, отмечается, что здесь нельзя исходить только из теоретической схемы. Необходим анализ фактических материалов, чтобы осознать основные теории, которые были предложены для объяснения этого материал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смысления того, что происходит в этот период, предлагает прежде всего рассмотреть социальную ситуацию развития и, в частности, симптомы возраста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 симптомы кризиса, которые выдвигаются на первый план, называется первым поясом симптомов или семизвездием кризиса трех лет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торым поясом симптомов называют последствия основных симптомов и дальнейшее их развити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менитый кризис трех лет впервые был описан Эльзой Келер в работе "О личности трехлетнего ребенка". Ею были выделены несколько важных симптомов этого кризис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Причины возникнов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 не могут точно и однозначно назвать конкретные причины возникновения возрастных кризисов. Выделяются определенные влияющие причины кризиса 3-х лет и факторы, которые прослеживаются в тех или иных ситуациях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обенности темперамента ребенка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Дети, обладающие слабым или неустойчивым типом нервной деятельности, чаще переживают кризис с максимально острыми проявлениями. Особенно тяжело приходится детям с холерическим темпераментом или малышам-меланхоликам. Сангвиники и флегматики менее подвержены кризисным изменения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итарное воспитание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– еще одна из причин серьезного кризиса дошкольного возраста. Постоянная диктатура родителей, подавление инициативы и игнорирование желаний ребенка приводит к бурным протеста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енная тревожность родителей и избыточная забота о малыше (гиперопека)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Стремления и желания ребенка подавляют из-за чрезмерного волнения за его здоровье. Родители не считают ребенка самостоятельным, делают за него вс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ы со здоровьем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Психические отклонения, неврологические заболевания и тяжелая хроническая патология влияют на реакции дете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фликты внутри семьи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В этом случае психологи дают рекомендации для родителей – не вмешивать ребенка во взрослые проблемы оградить его от выяснения родительских отношений и негатив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7b9899"/>
              </a:solidFill>
              <a:latin typeface="Corbel"/>
            </a:endParaRPr>
          </a:p>
        </p:txBody>
      </p:sp>
      <p:pic>
        <p:nvPicPr>
          <p:cNvPr id="337" name="Picture 2" descr="C:\Users\Дина\Desktop\praktikum-rebenok-krizis-3-let.jpg"/>
          <p:cNvPicPr/>
          <p:nvPr/>
        </p:nvPicPr>
        <p:blipFill>
          <a:blip r:embed="rId1"/>
          <a:stretch/>
        </p:blipFill>
        <p:spPr>
          <a:xfrm>
            <a:off x="10800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симптомы кризиса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920" y="1483920"/>
            <a:ext cx="460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той или иной мере проявления имеют сходные черты у всех детей, различается только степень тяжести ключевых характеристик кризиса 3 лет. Общие проявления родители описывают как изменения поведения и непослушность, скандалы и истерики, слезы буквально из-за каждой мелочи. Психологи выделяют 7 основных симптомов кризисного поведени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гативизм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Ребенок наотрез отказывается следовать указаниям взрослых, даже если эта просьба выгодна самому малышу. На любые просьбы – четкое «нет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птивость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Малыш резко меняет свои привычки, не желает придерживаться режима. За счет скандалов и истерик пытается отвоевать право делать так, как хочет он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ямство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Ребенок принимает какое-либо решение и четко придерживается этой линии. Его невозможно заставить, уговорить или мотивировать на те или иные привычные действия. Он будет рыдать, но четко стоять на свое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2" descr="C:\Users\Дина\Desktop\scale_1200.png"/>
          <p:cNvPicPr/>
          <p:nvPr/>
        </p:nvPicPr>
        <p:blipFill>
          <a:blip r:embed="rId1"/>
          <a:stretch/>
        </p:blipFill>
        <p:spPr>
          <a:xfrm>
            <a:off x="5580000" y="2565360"/>
            <a:ext cx="35640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09:41:20Z</dcterms:created>
  <dc:creator>Дина</dc:creator>
  <dc:description/>
  <dc:language>en-US</dc:language>
  <cp:lastModifiedBy>Дина</cp:lastModifiedBy>
  <dcterms:modified xsi:type="dcterms:W3CDTF">2021-11-17T20:49:41Z</dcterms:modified>
  <cp:revision>55</cp:revision>
  <dc:subject/>
  <dc:title>Слайд 1</dc:title>
</cp:coreProperties>
</file>